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A3F2-78F1-4570-9EC1-435EBB61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CE19-0D6E-441B-880B-FC7939D5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19A-A8C3-446C-9457-7CB6AFFD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C8A-3DD3-49C9-A7DA-BA8CF54A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870-BE44-4DD9-8D13-C7690106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4B2C-7F4C-491F-958C-2C1250C1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AD05-3533-4E1D-8F1B-D69070D8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34B-D399-4524-9891-EB56AE10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4440-856E-4DC6-90B4-33DD181B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A57-8833-4CED-BA35-ECDAD8CB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0EF-A96D-46CF-954B-4BAE857F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E25-5F27-4488-BDF0-AAF177C8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E368-A034-46F7-89CB-8ED8898C59DC}" type="slidenum">
              <a:rPr b="0" lang="hu-H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églalap 2"/>
          <p:cNvSpPr/>
          <p:nvPr/>
        </p:nvSpPr>
        <p:spPr>
          <a:xfrm>
            <a:off x="1143000" y="1285920"/>
            <a:ext cx="700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70c0"/>
                </a:solidFill>
                <a:latin typeface="Constantia"/>
              </a:rPr>
              <a:t>Környezetün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églalap 4"/>
          <p:cNvSpPr/>
          <p:nvPr/>
        </p:nvSpPr>
        <p:spPr>
          <a:xfrm>
            <a:off x="571680" y="35712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2060"/>
                </a:solidFill>
                <a:latin typeface="Constantia"/>
                <a:ea typeface="Dotum"/>
              </a:rPr>
              <a:t>Szent József Katolikus Általános Isk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2060"/>
                </a:solidFill>
                <a:latin typeface="Constantia"/>
                <a:ea typeface="Dotum"/>
              </a:rPr>
              <a:t>Kiskunhalas, Hung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Kép 5" descr="Kép1.jpg"/>
          <p:cNvPicPr/>
          <p:nvPr/>
        </p:nvPicPr>
        <p:blipFill>
          <a:blip r:embed="rId1"/>
          <a:stretch/>
        </p:blipFill>
        <p:spPr>
          <a:xfrm>
            <a:off x="2071800" y="2046240"/>
            <a:ext cx="5057640" cy="3454560"/>
          </a:xfrm>
          <a:prstGeom prst="rect">
            <a:avLst/>
          </a:prstGeom>
          <a:ln w="0">
            <a:noFill/>
          </a:ln>
        </p:spPr>
      </p:pic>
      <p:sp>
        <p:nvSpPr>
          <p:cNvPr id="44" name="Téglalap 3"/>
          <p:cNvSpPr/>
          <p:nvPr/>
        </p:nvSpPr>
        <p:spPr>
          <a:xfrm>
            <a:off x="642960" y="54291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000"/>
                </a:solidFill>
                <a:latin typeface="Eras Medium ITC"/>
              </a:rPr>
              <a:t>Beszámoló a végzett vizsgálatokró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Eras Medium ITC"/>
              </a:rPr>
              <a:t>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zövegdoboz 7"/>
          <p:cNvSpPr/>
          <p:nvPr/>
        </p:nvSpPr>
        <p:spPr>
          <a:xfrm>
            <a:off x="3214800" y="3571920"/>
            <a:ext cx="285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00"/>
                </a:solidFill>
                <a:latin typeface="Arial"/>
              </a:rPr>
              <a:t>Levegő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28920"/>
            <a:ext cx="83628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Calibri"/>
              </a:rPr>
              <a:t>Levegő</a:t>
            </a:r>
            <a:br>
              <a:rPr sz="2400"/>
            </a:br>
            <a:br>
              <a:rPr sz="2400"/>
            </a:b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Kiskunhalas és környéke,  az egyik nagy tájunk, az Alföld mérsékelten szennyezett levegőjű területeihez sorolható. A legfőbb szennyező-forrás az 53. számú főút, ahol nitrogén-oxidok, szén-dioxid, ólom és illékony szerves anyagok kerülnek a levegőbe, a szálló por koncentrációja pedig megnő. Az utak menti emisszión kívül meg kell említeni a lakosság téli fűtését is, ennek során jelentős mennyiségű kén-dioxid, nitrogén-dioxid és korom kerül a levegőbe.</a:t>
            </a:r>
            <a:br>
              <a:rPr sz="2000"/>
            </a:b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Kiskunhalason a Környezetvédelmi Felügyelőség méri az ülepedő por mennyiségét, melynek féléves átlagai jóval kisebbek a határértéknél, a 30 napos időszakokban azonban előfordul, hogy meghaladják azt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3296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Dotum"/>
                <a:ea typeface="Dotum"/>
              </a:rPr>
              <a:t>Szent József Katolikus Általános Iskol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Dotum"/>
                <a:ea typeface="Dotum"/>
              </a:rPr>
              <a:t>Kiskunhalas, Hunga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ép 4" descr="Kép3.jpg"/>
          <p:cNvPicPr/>
          <p:nvPr/>
        </p:nvPicPr>
        <p:blipFill>
          <a:blip r:embed="rId1"/>
          <a:stretch/>
        </p:blipFill>
        <p:spPr>
          <a:xfrm>
            <a:off x="2611440" y="642960"/>
            <a:ext cx="39607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2071440" y="857160"/>
            <a:ext cx="50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Térkép készítése az iskola környékéről.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Kép 3" descr="Kép2.jpg"/>
          <p:cNvPicPr/>
          <p:nvPr/>
        </p:nvPicPr>
        <p:blipFill>
          <a:blip r:embed="rId1"/>
          <a:stretch/>
        </p:blipFill>
        <p:spPr>
          <a:xfrm>
            <a:off x="1143000" y="1571760"/>
            <a:ext cx="69292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3"/>
          <p:cNvSpPr/>
          <p:nvPr/>
        </p:nvSpPr>
        <p:spPr>
          <a:xfrm>
            <a:off x="4338720" y="12160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unka közbe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Kép 6" descr="Kép7.jpg"/>
          <p:cNvPicPr/>
          <p:nvPr/>
        </p:nvPicPr>
        <p:blipFill>
          <a:blip r:embed="rId1"/>
          <a:stretch/>
        </p:blipFill>
        <p:spPr>
          <a:xfrm>
            <a:off x="4000680" y="1857240"/>
            <a:ext cx="4786200" cy="3191040"/>
          </a:xfrm>
          <a:prstGeom prst="rect">
            <a:avLst/>
          </a:prstGeom>
          <a:ln w="0">
            <a:noFill/>
          </a:ln>
        </p:spPr>
      </p:pic>
      <p:pic>
        <p:nvPicPr>
          <p:cNvPr id="53" name="Kép 7" descr="Kép8.jpg"/>
          <p:cNvPicPr/>
          <p:nvPr/>
        </p:nvPicPr>
        <p:blipFill>
          <a:blip r:embed="rId2"/>
          <a:stretch/>
        </p:blipFill>
        <p:spPr>
          <a:xfrm>
            <a:off x="357120" y="1028880"/>
            <a:ext cx="34466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539640" y="404640"/>
            <a:ext cx="76536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A zuzmók a negatív indikátorok közé tartoznak, jelenlétük arra utal, hogy nincs, vagy nagyon alacsony a SO</a:t>
            </a:r>
            <a:r>
              <a:rPr b="0" lang="hu-HU" sz="1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 koncentráció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A zuzmók nagyon érzékenyek a légköri kéndioxid-terhelésre. Lassú növekedésük és folyamatos élettevékenységük miatt télen-nyáron felhalmozzák - akkumulálják magukban a szennyező anyagokat, így szervezetük csekély légköri koncentráció esetén is károsodik, elpusztu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11280" y="2781360"/>
            <a:ext cx="230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További anyagokra érzékenyek: SO2, NOX, ózon, fluorid, növényvédő szer, műtrágya, radioaktív anyag, kló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115080" y="6264360"/>
            <a:ext cx="44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Közönséges sárgazuzmó – Xanthoria parie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Kép 5" descr="Kép4.jpg"/>
          <p:cNvPicPr/>
          <p:nvPr/>
        </p:nvPicPr>
        <p:blipFill>
          <a:blip r:embed="rId1"/>
          <a:stretch/>
        </p:blipFill>
        <p:spPr>
          <a:xfrm>
            <a:off x="3071880" y="2500200"/>
            <a:ext cx="550080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7"/>
          <p:cNvSpPr/>
          <p:nvPr/>
        </p:nvSpPr>
        <p:spPr>
          <a:xfrm>
            <a:off x="609840" y="6318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Az iskolánk környékén szinte minden fán találtunk zuzmó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Kép 3" descr="Kép5.jpg"/>
          <p:cNvPicPr/>
          <p:nvPr/>
        </p:nvPicPr>
        <p:blipFill>
          <a:blip r:embed="rId1"/>
          <a:stretch/>
        </p:blipFill>
        <p:spPr>
          <a:xfrm>
            <a:off x="642960" y="1143000"/>
            <a:ext cx="75722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7"/>
          <p:cNvSpPr/>
          <p:nvPr/>
        </p:nvSpPr>
        <p:spPr>
          <a:xfrm>
            <a:off x="1166760" y="639720"/>
            <a:ext cx="51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Zuzmó az iskola udvará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Kép 3" descr="Kép6.jpg"/>
          <p:cNvPicPr/>
          <p:nvPr/>
        </p:nvPicPr>
        <p:blipFill>
          <a:blip r:embed="rId1"/>
          <a:stretch/>
        </p:blipFill>
        <p:spPr>
          <a:xfrm>
            <a:off x="857160" y="1214280"/>
            <a:ext cx="73580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20:04:18Z</dcterms:created>
  <dc:creator>Julia</dc:creator>
  <dc:description/>
  <dc:language>en-US</dc:language>
  <cp:lastModifiedBy>Julia</cp:lastModifiedBy>
  <dcterms:modified xsi:type="dcterms:W3CDTF">2010-02-25T20:57:45Z</dcterms:modified>
  <cp:revision>48</cp:revision>
  <dc:subject/>
  <dc:title>1. dia</dc:title>
</cp:coreProperties>
</file>